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E68CD-2147-4DA6-8DEC-13E429E01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8D1B3-B8DE-4805-A780-E46FCB734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1901A-8837-43FB-B1DC-892B32549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3F035-8181-4511-9A17-A19B7D1D5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AA6E1-DC78-4CB0-81A0-97D60DECF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CBE76-E9E9-44EC-99AF-15B93DE08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C4641-FCF4-451B-AB31-5A98410B4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9CD-676F-4AEB-BC50-95BF925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A05-6316-4E42-AEE4-5118068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280-D3A2-4F6E-9E99-C107F305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F97-C2CD-418D-B26C-9F1FB8CD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129-F78A-4ABA-B88E-9A8085C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A49-1B32-4868-86B0-B93C2D16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2BE-4D92-496D-A7B4-27E9997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FCC-30BF-40D1-8271-692401D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42A-2A18-49BC-BBAC-F259302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7C5-A7C3-49EC-9198-5C7B551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13F-7903-4BC1-9220-DCFE849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C5A-330E-4E4A-ADAE-94E010E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846B3-9543-4477-A0FB-E4B81E07827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alism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16080" y="4541760"/>
            <a:ext cx="2361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hodes Coloss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azine, 18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litical cartoon depicts British imperialist Cecil Rhodes striding across the continent of Africa, holding a telegraph w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68360" y="1112400"/>
            <a:ext cx="91058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definition for this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people of a common ethnicity or culture should have sovereignty (independent, self-rule) over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definition for nation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1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dea drives people to act in the interest of their perceived nation, and sometimes to think less of those belonging to other national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6080" y="1767960"/>
            <a:ext cx="94485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y of extending a country’s power and influence through military force or diplo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idea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the Roman Empire or other empire-building civilization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total colonial control over another territory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rough a range of “soft power” methods like ownership of private industries in a foreign terr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90676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320" y="1265040"/>
            <a:ext cx="921996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ne country establishes control over another territory for the political or economic benefit of the colonizing (“mother”)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r colon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many people from the “mother” country move to live in the colony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U.S. or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a smaller number of people from the colonizing country act as administrators over the native population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British Raj in India in th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differences between imperialism and colon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losely related, and we sometimes use them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mper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lon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 powerful country dominating weak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 Lambek</cp:lastModifiedBy>
  <dcterms:modified xsi:type="dcterms:W3CDTF">2017-11-16T13:58:46Z</dcterms:modified>
  <cp:revision>14</cp:revision>
  <dc:subject/>
  <dc:title>Unit 2:  Colonization, Imperialism, and Independence</dc:title>
</cp:coreProperties>
</file>